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78A-C748-4714-A6AB-8CB2270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254-D8C5-44AE-B67E-514D93F7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B32-9CB8-4CBA-977C-0CCE30BD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0C2-CB2E-45A0-9450-B4C8836F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C42-6E15-43D8-907A-12AA5B1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FCD-E750-4808-BD3B-7812D8D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BBE-A38D-4EC8-8256-AB235CC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469-666D-4311-8EE8-D38DE00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6A2-E9DB-4989-8EC3-EBA2B7C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6AE-9928-4DBB-A4D7-966062B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C0A-E943-418F-AB28-8CC945A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A35-1009-41AF-A7F0-DAA3796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3E90-312D-4587-80AD-A9A380F0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rachypelma_edit.jpg" TargetMode="External"/><Relationship Id="rId2" Type="http://schemas.openxmlformats.org/officeDocument/2006/relationships/hyperlink" Target="http://en.wikipedia.org/wiki/Image:Brachypelma_edi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neSerif SAIN SmBd v.1"/>
              </a:rPr>
              <a:t>What Is Visibl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What is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zzling</a:t>
            </a: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7545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828800" y="1676520"/>
            <a:ext cx="4495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rald"/>
              </a:rPr>
              <a:t>Why do arthropods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rald"/>
              <a:ea typeface="Hera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rald"/>
              </a:rPr>
              <a:t>hang upside down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rald"/>
              <a:ea typeface="Herald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xplore</a:t>
            </a:r>
            <a:r>
              <a:rPr b="1" lang="en-US" sz="4800" spc="-1" strike="noStrike">
                <a:solidFill>
                  <a:srgbClr val="000000"/>
                </a:solidFill>
                <a:latin typeface="StoneSerif SAIN SmBd v.1"/>
              </a:rPr>
              <a:t> Puzzling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52680" y="1447920"/>
            <a:ext cx="2057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9528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A pad of hairs called a scopula may surround the claws.  The scopula sticks to smooth surfaces and helps the spider walk on ceilings and wall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ewardson"/>
              </a:rPr>
              <a:t>World Book 2000 p. 7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oneSerif SAIN SmBd v.1"/>
              </a:rPr>
              <a:t>Think-Puzzle-Explore</a:t>
            </a:r>
            <a:r>
              <a:rPr b="0" lang="en-US" sz="4400" spc="-1" strike="noStrike">
                <a:solidFill>
                  <a:srgbClr val="000000"/>
                </a:solidFill>
                <a:latin typeface="StoneSerif SAIN SmBd v.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533160" cy="4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838080" y="838080"/>
          <a:ext cx="7238880" cy="5653080"/>
        </p:xfrm>
        <a:graphic>
          <a:graphicData uri="http://schemas.openxmlformats.org/drawingml/2006/table">
            <a:tbl>
              <a:tblPr/>
              <a:tblGrid>
                <a:gridCol w="2413080"/>
                <a:gridCol w="2412720"/>
                <a:gridCol w="241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TH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PUZZL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toneSerif SBIN SmBd v.1"/>
                        </a:rPr>
                        <a:t>EXPL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Puzzle-Expl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Similar to the KWL chart but there are Important Differenc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666880"/>
            <a:ext cx="7315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Both tap into prior knowledge but Think-Puzzle-Explore asks "what the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toneSerif SBIN SmBd v.1"/>
              </a:rPr>
              <a:t>think</a:t>
            </a: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 they know" rather than "what they know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-Open ended approach enables students to offer thoughts rather than definite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-Encourages the reluctant student to participate in discussions, since all thoughts are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039680" cy="127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Implication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Teaching Learn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Classroom activities become more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learning centered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rather than work orient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Builds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of all students by </a:t>
            </a: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increased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Promotes risk-fre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toneSerif SBIN SmBd v.1"/>
              </a:rPr>
              <a:t>Assesses</a:t>
            </a:r>
            <a:r>
              <a:rPr b="0" lang="en-US" sz="3200" spc="-1" strike="noStrike">
                <a:solidFill>
                  <a:srgbClr val="000000"/>
                </a:solidFill>
                <a:latin typeface="StoneSerif SBIN SmBd v.1"/>
              </a:rPr>
              <a:t> student thinking using visible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18960" cy="1157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LEAR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I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CONSEQU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63332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What is Visibl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Using thinking routi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and docu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to deep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Serif SBIN SmBd v.1"/>
              </a:rPr>
              <a:t>students' understand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651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Six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StoneSerif SBIN SmBd v.1"/>
              </a:rPr>
              <a:t>Key</a:t>
            </a: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 Principle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BIN SmBd v.1"/>
              </a:rPr>
              <a:t>Visible Think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Learning is a Consequence of Thinking</a:t>
            </a:r>
            <a:r>
              <a:rPr b="0" lang="en-US" sz="2800" spc="-1" strike="noStrike">
                <a:solidFill>
                  <a:srgbClr val="000000"/>
                </a:solidFill>
                <a:latin typeface="StoneSerif SBIN SmBd v.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Share and Buil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Good Thinking is Not Only a Matter of Skills But Also a Matter of Dis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Curiosity and Openm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The Development of Thinking is a Social Ende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Conversations, Engagement, and Coopera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0573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Fostering Thinking Requires Making Thinking Visible</a:t>
            </a: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Speaking, Writing, Drawing, and Graphic Organizers for Later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Classroom Culture Sets the Tone for Learning and Shapes What i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classroom routines/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language/discu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explicit/implicit expec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time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physic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relationships/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toneSerif SBIN SmBd v.1"/>
              </a:rPr>
              <a:t>-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toneSerif SBIN SmBd v.1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oneSerif SBIN SmBd v.1"/>
              </a:rPr>
              <a:t>Schools Must be Cultures of Thinking for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toneSerif SBIN SmBd v.1"/>
              </a:rPr>
              <a:t>"Professional Learning Communiti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oneSerif SBIN SmBd v.1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AIN SmBd v.1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toneSerif SAIN SmBd v.1"/>
              </a:rPr>
              <a:t>A Strategy to Make Thinking Visibl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toneSerif SAIN SmBd v.1"/>
              </a:rPr>
              <a:t>is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Think-Puzzle-Expl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584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hink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about a topic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Identif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uzzling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Questions </a:t>
            </a: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plore</a:t>
            </a:r>
            <a:r>
              <a:rPr b="1" lang="en-US" sz="4000" spc="-1" strike="noStrike">
                <a:solidFill>
                  <a:srgbClr val="000000"/>
                </a:solidFill>
                <a:latin typeface="StoneSerif SAIN SmBd v.1"/>
              </a:rPr>
              <a:t> Puzzl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4191120"/>
            <a:ext cx="182088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6600" spc="-1" strike="noStrike">
                <a:solidFill>
                  <a:srgbClr val="000000"/>
                </a:solidFill>
                <a:latin typeface="StoneSerif SAIN SmBd v.1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90560" y="54097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toneSerif SBIN SmBd v.1"/>
              </a:rPr>
              <a:t>Arthrop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29145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250px-Brachypelma_edit" descr="Mexican redknee tarantulaBrachypelma smith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057400"/>
            <a:ext cx="33148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1:31:15Z</dcterms:created>
  <dc:creator> johanna martinez</dc:creator>
  <dc:description/>
  <dc:language>en-US</dc:language>
  <cp:lastModifiedBy>North Rockland High School</cp:lastModifiedBy>
  <dcterms:modified xsi:type="dcterms:W3CDTF">2010-01-27T12:20:51Z</dcterms:modified>
  <cp:revision>6</cp:revision>
  <dc:subject/>
  <dc:title>What Is Visible Thinking?</dc:title>
</cp:coreProperties>
</file>